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2" spc="-1" strike="noStrike">
                <a:solidFill>
                  <a:srgbClr val="000000"/>
                </a:solidFill>
                <a:latin typeface="Arial"/>
              </a:defRPr>
            </a:pPr>
            <a:r>
              <a:rPr b="0" sz="1082" spc="-1" strike="noStrike">
                <a:solidFill>
                  <a:srgbClr val="000000"/>
                </a:solidFill>
                <a:latin typeface="Arial"/>
              </a:rPr>
              <a:t>EELVC MATUTINO </a:t>
            </a:r>
          </a:p>
        </c:rich>
      </c:tx>
      <c:layout>
        <c:manualLayout>
          <c:xMode val="edge"/>
          <c:yMode val="edge"/>
          <c:x val="0.426203279854229"/>
          <c:y val="0.020247469066366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56355455568054"/>
          <c:w val="0.959957335229545"/>
          <c:h val="0.82302212223472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5</c:v>
                </c:pt>
                <c:pt idx="2">
                  <c:v>1</c:v>
                </c:pt>
                <c:pt idx="3">
                  <c:v>0</c:v>
                </c:pt>
                <c:pt idx="4">
                  <c:v>2</c:v>
                </c:pt>
                <c:pt idx="5">
                  <c:v>0</c:v>
                </c:pt>
                <c:pt idx="6">
                  <c:v>0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5</c:v>
                </c:pt>
                <c:pt idx="1">
                  <c:v>3</c:v>
                </c:pt>
                <c:pt idx="2">
                  <c:v>9</c:v>
                </c:pt>
                <c:pt idx="3">
                  <c:v>9</c:v>
                </c:pt>
                <c:pt idx="4">
                  <c:v>3</c:v>
                </c:pt>
                <c:pt idx="5">
                  <c:v>3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.5</c:v>
                </c:pt>
              </c:numCache>
            </c:numRef>
          </c:val>
        </c:ser>
        <c:gapWidth val="100"/>
        <c:overlap val="0"/>
        <c:axId val="45069123"/>
        <c:axId val="79748544"/>
      </c:barChart>
      <c:catAx>
        <c:axId val="4506912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48544"/>
        <c:crossesAt val="0"/>
        <c:auto val="1"/>
        <c:lblAlgn val="ctr"/>
        <c:lblOffset val="100"/>
        <c:noMultiLvlLbl val="0"/>
      </c:catAx>
      <c:valAx>
        <c:axId val="79748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6912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774" spc="-1" strike="noStrike">
                <a:solidFill>
                  <a:srgbClr val="000000"/>
                </a:solidFill>
                <a:latin typeface="Arial"/>
              </a:defRPr>
            </a:pPr>
            <a:r>
              <a:rPr b="0" sz="774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70156881916359"/>
          <c:y val="0.0199973336888415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451673110252"/>
          <c:w val="0.959957335229545"/>
          <c:h val="0.85481935741901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8</c:v>
                </c:pt>
                <c:pt idx="2">
                  <c:v>6</c:v>
                </c:pt>
                <c:pt idx="3">
                  <c:v>0</c:v>
                </c:pt>
                <c:pt idx="4">
                  <c:v>1</c:v>
                </c:pt>
                <c:pt idx="5">
                  <c:v>5</c:v>
                </c:pt>
                <c:pt idx="6">
                  <c:v>2</c:v>
                </c:pt>
                <c:pt idx="7">
                  <c:v>1</c:v>
                </c:pt>
                <c:pt idx="8">
                  <c:v>2</c:v>
                </c:pt>
                <c:pt idx="9">
                  <c:v>6</c:v>
                </c:pt>
                <c:pt idx="10">
                  <c:v>3</c:v>
                </c:pt>
                <c:pt idx="11">
                  <c:v>6</c:v>
                </c:pt>
                <c:pt idx="12">
                  <c:v>2</c:v>
                </c:pt>
                <c:pt idx="13">
                  <c:v>1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05988023952096</c:v>
                </c:pt>
                <c:pt idx="1">
                  <c:v>3.05988023952096</c:v>
                </c:pt>
                <c:pt idx="2">
                  <c:v>12.6766467065868</c:v>
                </c:pt>
                <c:pt idx="3">
                  <c:v>10.9281437125749</c:v>
                </c:pt>
                <c:pt idx="4">
                  <c:v>7.86826347305389</c:v>
                </c:pt>
                <c:pt idx="5">
                  <c:v>7.86826347305389</c:v>
                </c:pt>
                <c:pt idx="6">
                  <c:v>7.86826347305389</c:v>
                </c:pt>
                <c:pt idx="7">
                  <c:v>5.24550898203593</c:v>
                </c:pt>
                <c:pt idx="8">
                  <c:v>2.62275449101796</c:v>
                </c:pt>
                <c:pt idx="9">
                  <c:v>3.49700598802395</c:v>
                </c:pt>
                <c:pt idx="10">
                  <c:v>3.05988023952096</c:v>
                </c:pt>
                <c:pt idx="11">
                  <c:v>2.62275449101796</c:v>
                </c:pt>
                <c:pt idx="12">
                  <c:v>1.31137724550898</c:v>
                </c:pt>
                <c:pt idx="13">
                  <c:v>1.31137724550898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788812"/>
        <c:axId val="94215875"/>
      </c:barChart>
      <c:catAx>
        <c:axId val="78881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15875"/>
        <c:crossesAt val="0"/>
        <c:auto val="1"/>
        <c:lblAlgn val="ctr"/>
        <c:lblOffset val="100"/>
        <c:noMultiLvlLbl val="0"/>
      </c:catAx>
      <c:valAx>
        <c:axId val="94215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81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2" spc="-1" strike="noStrike">
                <a:solidFill>
                  <a:srgbClr val="000000"/>
                </a:solidFill>
                <a:latin typeface="Arial"/>
              </a:defRPr>
            </a:pPr>
            <a:r>
              <a:rPr b="0" sz="1082" spc="-1" strike="noStrike">
                <a:solidFill>
                  <a:srgbClr val="000000"/>
                </a:solidFill>
                <a:latin typeface="Arial"/>
              </a:rPr>
              <a:t>EELVC MATUTINO</a:t>
            </a:r>
          </a:p>
        </c:rich>
      </c:tx>
      <c:layout>
        <c:manualLayout>
          <c:xMode val="edge"/>
          <c:yMode val="edge"/>
          <c:x val="0.428558730723079"/>
          <c:y val="0.020263964804692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56245833888815"/>
          <c:w val="0.959957335229545"/>
          <c:h val="0.8229569390747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5</c:v>
                </c:pt>
                <c:pt idx="2">
                  <c:v>1</c:v>
                </c:pt>
                <c:pt idx="3">
                  <c:v>2</c:v>
                </c:pt>
                <c:pt idx="4">
                  <c:v>4</c:v>
                </c:pt>
                <c:pt idx="5">
                  <c:v>4</c:v>
                </c:pt>
                <c:pt idx="6">
                  <c:v>0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5</c:v>
                </c:pt>
                <c:pt idx="1">
                  <c:v>3</c:v>
                </c:pt>
                <c:pt idx="2">
                  <c:v>9</c:v>
                </c:pt>
                <c:pt idx="3">
                  <c:v>9</c:v>
                </c:pt>
                <c:pt idx="4">
                  <c:v>3</c:v>
                </c:pt>
                <c:pt idx="5">
                  <c:v>3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.5</c:v>
                </c:pt>
              </c:numCache>
            </c:numRef>
          </c:val>
        </c:ser>
        <c:gapWidth val="100"/>
        <c:overlap val="0"/>
        <c:axId val="34481489"/>
        <c:axId val="53540944"/>
      </c:barChart>
      <c:catAx>
        <c:axId val="3448148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40944"/>
        <c:crossesAt val="0"/>
        <c:auto val="1"/>
        <c:lblAlgn val="ctr"/>
        <c:lblOffset val="100"/>
        <c:noMultiLvlLbl val="0"/>
      </c:catAx>
      <c:valAx>
        <c:axId val="53540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8148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3" spc="-1" strike="noStrike">
                <a:solidFill>
                  <a:srgbClr val="000000"/>
                </a:solidFill>
                <a:latin typeface="Arial"/>
              </a:defRPr>
            </a:pPr>
            <a:r>
              <a:rPr b="0" sz="1083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47535665081552"/>
          <c:y val="0.019872515935508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36857892763405"/>
          <c:w val="0.959912892760322"/>
          <c:h val="0.8426446694163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3</c:v>
                </c:pt>
                <c:pt idx="2">
                  <c:v>6</c:v>
                </c:pt>
                <c:pt idx="3">
                  <c:v>2</c:v>
                </c:pt>
                <c:pt idx="4">
                  <c:v>12</c:v>
                </c:pt>
                <c:pt idx="5">
                  <c:v>2</c:v>
                </c:pt>
                <c:pt idx="6">
                  <c:v>1</c:v>
                </c:pt>
                <c:pt idx="7">
                  <c:v>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7.31818181818182</c:v>
                </c:pt>
                <c:pt idx="1">
                  <c:v>5.72727272727273</c:v>
                </c:pt>
                <c:pt idx="2">
                  <c:v>15.9090909090909</c:v>
                </c:pt>
                <c:pt idx="3">
                  <c:v>14.6363636363636</c:v>
                </c:pt>
                <c:pt idx="4">
                  <c:v>7</c:v>
                </c:pt>
                <c:pt idx="5">
                  <c:v>7</c:v>
                </c:pt>
                <c:pt idx="6">
                  <c:v>2.54545454545455</c:v>
                </c:pt>
                <c:pt idx="7">
                  <c:v>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27272727272727</c:v>
                </c:pt>
                <c:pt idx="15">
                  <c:v>1.59090909090909</c:v>
                </c:pt>
              </c:numCache>
            </c:numRef>
          </c:val>
        </c:ser>
        <c:gapWidth val="100"/>
        <c:overlap val="0"/>
        <c:axId val="69317824"/>
        <c:axId val="42134135"/>
      </c:barChart>
      <c:catAx>
        <c:axId val="6931782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34135"/>
        <c:crossesAt val="0"/>
        <c:auto val="1"/>
        <c:lblAlgn val="ctr"/>
        <c:lblOffset val="100"/>
        <c:noMultiLvlLbl val="0"/>
      </c:catAx>
      <c:valAx>
        <c:axId val="42134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1782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889" spc="-1" strike="noStrike">
                <a:solidFill>
                  <a:srgbClr val="000000"/>
                </a:solidFill>
                <a:latin typeface="Arial"/>
              </a:defRPr>
            </a:pPr>
            <a:r>
              <a:rPr b="0" sz="889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55888368710513"/>
          <c:y val="0.0197524690586323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081859915458"/>
          <c:y val="0.123015376922115"/>
          <c:w val="0.959956365619745"/>
          <c:h val="0.85673209151143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2</c:v>
                </c:pt>
                <c:pt idx="3">
                  <c:v>6</c:v>
                </c:pt>
                <c:pt idx="4">
                  <c:v>10</c:v>
                </c:pt>
                <c:pt idx="5">
                  <c:v>5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7.63181818181818</c:v>
                </c:pt>
                <c:pt idx="1">
                  <c:v>5.97272727272727</c:v>
                </c:pt>
                <c:pt idx="2">
                  <c:v>16.5909090909091</c:v>
                </c:pt>
                <c:pt idx="3">
                  <c:v>15.2636363636364</c:v>
                </c:pt>
                <c:pt idx="4">
                  <c:v>7.3</c:v>
                </c:pt>
                <c:pt idx="5">
                  <c:v>7.3</c:v>
                </c:pt>
                <c:pt idx="6">
                  <c:v>2.65454545454545</c:v>
                </c:pt>
                <c:pt idx="7">
                  <c:v>7.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2727272727273</c:v>
                </c:pt>
                <c:pt idx="15">
                  <c:v>1.65909090909091</c:v>
                </c:pt>
              </c:numCache>
            </c:numRef>
          </c:val>
        </c:ser>
        <c:gapWidth val="100"/>
        <c:overlap val="0"/>
        <c:axId val="91866"/>
        <c:axId val="29676506"/>
      </c:barChart>
      <c:catAx>
        <c:axId val="9186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76506"/>
        <c:crossesAt val="0"/>
        <c:auto val="1"/>
        <c:lblAlgn val="ctr"/>
        <c:lblOffset val="100"/>
        <c:noMultiLvlLbl val="0"/>
      </c:catAx>
      <c:valAx>
        <c:axId val="29676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6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2" spc="-1" strike="noStrike">
                <a:solidFill>
                  <a:srgbClr val="000000"/>
                </a:solidFill>
                <a:latin typeface="Arial"/>
              </a:defRPr>
            </a:pPr>
            <a:r>
              <a:rPr b="0" sz="1082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47624550019999"/>
          <c:y val="0.020247469066366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56480439945007"/>
          <c:w val="0.959912892760322"/>
          <c:h val="0.82314710661167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7</c:v>
                </c:pt>
                <c:pt idx="2">
                  <c:v>0</c:v>
                </c:pt>
                <c:pt idx="3">
                  <c:v>2</c:v>
                </c:pt>
                <c:pt idx="4">
                  <c:v>12</c:v>
                </c:pt>
                <c:pt idx="5">
                  <c:v>7</c:v>
                </c:pt>
                <c:pt idx="6">
                  <c:v>3</c:v>
                </c:pt>
                <c:pt idx="7">
                  <c:v>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7.31818181818182</c:v>
                </c:pt>
                <c:pt idx="1">
                  <c:v>5.72727272727273</c:v>
                </c:pt>
                <c:pt idx="2">
                  <c:v>15.9090909090909</c:v>
                </c:pt>
                <c:pt idx="3">
                  <c:v>14.6363636363636</c:v>
                </c:pt>
                <c:pt idx="4">
                  <c:v>7</c:v>
                </c:pt>
                <c:pt idx="5">
                  <c:v>7</c:v>
                </c:pt>
                <c:pt idx="6">
                  <c:v>2.54545454545455</c:v>
                </c:pt>
                <c:pt idx="7">
                  <c:v>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27272727272727</c:v>
                </c:pt>
                <c:pt idx="15">
                  <c:v>1.59090909090909</c:v>
                </c:pt>
              </c:numCache>
            </c:numRef>
          </c:val>
        </c:ser>
        <c:gapWidth val="100"/>
        <c:overlap val="0"/>
        <c:axId val="25694539"/>
        <c:axId val="37657742"/>
      </c:barChart>
      <c:catAx>
        <c:axId val="2569453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57742"/>
        <c:crossesAt val="0"/>
        <c:auto val="1"/>
        <c:lblAlgn val="ctr"/>
        <c:lblOffset val="100"/>
        <c:noMultiLvlLbl val="0"/>
      </c:catAx>
      <c:valAx>
        <c:axId val="37657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9453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774" spc="-1" strike="noStrike">
                <a:solidFill>
                  <a:srgbClr val="000000"/>
                </a:solidFill>
                <a:latin typeface="Arial"/>
              </a:defRPr>
            </a:pPr>
            <a:r>
              <a:rPr b="0" sz="774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62379449802231"/>
          <c:y val="0.0199973336888415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4783362218371"/>
          <c:w val="0.959912892760322"/>
          <c:h val="0.85481935741901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6</c:v>
                </c:pt>
                <c:pt idx="1">
                  <c:v>16</c:v>
                </c:pt>
                <c:pt idx="2">
                  <c:v>4</c:v>
                </c:pt>
                <c:pt idx="3">
                  <c:v>4</c:v>
                </c:pt>
                <c:pt idx="4">
                  <c:v>9</c:v>
                </c:pt>
                <c:pt idx="5">
                  <c:v>2</c:v>
                </c:pt>
                <c:pt idx="6">
                  <c:v>8</c:v>
                </c:pt>
                <c:pt idx="7">
                  <c:v>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7.63181818181818</c:v>
                </c:pt>
                <c:pt idx="1">
                  <c:v>5.97272727272727</c:v>
                </c:pt>
                <c:pt idx="2">
                  <c:v>16.5909090909091</c:v>
                </c:pt>
                <c:pt idx="3">
                  <c:v>15.2636363636364</c:v>
                </c:pt>
                <c:pt idx="4">
                  <c:v>7.3</c:v>
                </c:pt>
                <c:pt idx="5">
                  <c:v>7.3</c:v>
                </c:pt>
                <c:pt idx="6">
                  <c:v>2.65454545454545</c:v>
                </c:pt>
                <c:pt idx="7">
                  <c:v>7.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2727272727273</c:v>
                </c:pt>
                <c:pt idx="15">
                  <c:v>1.65909090909091</c:v>
                </c:pt>
              </c:numCache>
            </c:numRef>
          </c:val>
        </c:ser>
        <c:gapWidth val="100"/>
        <c:overlap val="0"/>
        <c:axId val="4611815"/>
        <c:axId val="9286953"/>
      </c:barChart>
      <c:catAx>
        <c:axId val="461181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6953"/>
        <c:crossesAt val="0"/>
        <c:auto val="1"/>
        <c:lblAlgn val="ctr"/>
        <c:lblOffset val="100"/>
        <c:noMultiLvlLbl val="0"/>
      </c:catAx>
      <c:valAx>
        <c:axId val="9286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181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3" spc="-1" strike="noStrike">
                <a:solidFill>
                  <a:srgbClr val="000000"/>
                </a:solidFill>
                <a:latin typeface="Arial"/>
              </a:defRPr>
            </a:pPr>
            <a:r>
              <a:rPr b="0" sz="1083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5877960979512"/>
          <c:y val="0.01999750031246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36982877140357"/>
          <c:w val="0.959912892760322"/>
          <c:h val="0.8425196850393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7</c:v>
                </c:pt>
                <c:pt idx="3">
                  <c:v>0</c:v>
                </c:pt>
                <c:pt idx="4">
                  <c:v>9</c:v>
                </c:pt>
                <c:pt idx="5">
                  <c:v>4</c:v>
                </c:pt>
                <c:pt idx="6">
                  <c:v>0</c:v>
                </c:pt>
                <c:pt idx="7">
                  <c:v>2</c:v>
                </c:pt>
                <c:pt idx="8">
                  <c:v>4</c:v>
                </c:pt>
                <c:pt idx="9">
                  <c:v>5</c:v>
                </c:pt>
                <c:pt idx="10">
                  <c:v>4</c:v>
                </c:pt>
                <c:pt idx="11">
                  <c:v>1</c:v>
                </c:pt>
                <c:pt idx="12">
                  <c:v>4</c:v>
                </c:pt>
                <c:pt idx="13">
                  <c:v>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80838323353293</c:v>
                </c:pt>
                <c:pt idx="1">
                  <c:v>2.80838323353293</c:v>
                </c:pt>
                <c:pt idx="2">
                  <c:v>11.6347305389222</c:v>
                </c:pt>
                <c:pt idx="3">
                  <c:v>10.0299401197605</c:v>
                </c:pt>
                <c:pt idx="4">
                  <c:v>7.22155688622755</c:v>
                </c:pt>
                <c:pt idx="5">
                  <c:v>7.22155688622755</c:v>
                </c:pt>
                <c:pt idx="6">
                  <c:v>7.22155688622755</c:v>
                </c:pt>
                <c:pt idx="7">
                  <c:v>4.81437125748503</c:v>
                </c:pt>
                <c:pt idx="8">
                  <c:v>2.40718562874252</c:v>
                </c:pt>
                <c:pt idx="9">
                  <c:v>3.20958083832335</c:v>
                </c:pt>
                <c:pt idx="10">
                  <c:v>2.80838323353293</c:v>
                </c:pt>
                <c:pt idx="11">
                  <c:v>2.40718562874252</c:v>
                </c:pt>
                <c:pt idx="12">
                  <c:v>1.20359281437126</c:v>
                </c:pt>
                <c:pt idx="13">
                  <c:v>1.20359281437126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48153808"/>
        <c:axId val="39537342"/>
      </c:barChart>
      <c:catAx>
        <c:axId val="4815380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37342"/>
        <c:crossesAt val="0"/>
        <c:auto val="1"/>
        <c:lblAlgn val="ctr"/>
        <c:lblOffset val="100"/>
        <c:noMultiLvlLbl val="0"/>
      </c:catAx>
      <c:valAx>
        <c:axId val="39537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5380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10" spc="-1" strike="noStrike">
                <a:solidFill>
                  <a:srgbClr val="000000"/>
                </a:solidFill>
                <a:latin typeface="Arial"/>
              </a:defRPr>
            </a:pPr>
            <a:r>
              <a:rPr b="0" sz="910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65445980178659"/>
          <c:y val="0.01974753155855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22984626921635"/>
          <c:w val="0.960001777698769"/>
          <c:h val="0.85689288838895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4</c:v>
                </c:pt>
                <c:pt idx="2">
                  <c:v>3</c:v>
                </c:pt>
                <c:pt idx="3">
                  <c:v>0</c:v>
                </c:pt>
                <c:pt idx="4">
                  <c:v>1</c:v>
                </c:pt>
                <c:pt idx="5">
                  <c:v>7</c:v>
                </c:pt>
                <c:pt idx="6">
                  <c:v>0</c:v>
                </c:pt>
                <c:pt idx="7">
                  <c:v>0</c:v>
                </c:pt>
                <c:pt idx="8">
                  <c:v>3</c:v>
                </c:pt>
                <c:pt idx="9">
                  <c:v>0</c:v>
                </c:pt>
                <c:pt idx="10">
                  <c:v>5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93413173652695</c:v>
                </c:pt>
                <c:pt idx="1">
                  <c:v>2.93413173652695</c:v>
                </c:pt>
                <c:pt idx="2">
                  <c:v>12.1556886227545</c:v>
                </c:pt>
                <c:pt idx="3">
                  <c:v>10.4790419161677</c:v>
                </c:pt>
                <c:pt idx="4">
                  <c:v>7.54491017964072</c:v>
                </c:pt>
                <c:pt idx="5">
                  <c:v>7.54491017964072</c:v>
                </c:pt>
                <c:pt idx="6">
                  <c:v>7.54491017964072</c:v>
                </c:pt>
                <c:pt idx="7">
                  <c:v>5.02994011976048</c:v>
                </c:pt>
                <c:pt idx="8">
                  <c:v>2.51497005988024</c:v>
                </c:pt>
                <c:pt idx="9">
                  <c:v>3.35329341317365</c:v>
                </c:pt>
                <c:pt idx="10">
                  <c:v>2.93413173652695</c:v>
                </c:pt>
                <c:pt idx="11">
                  <c:v>2.51497005988024</c:v>
                </c:pt>
                <c:pt idx="12">
                  <c:v>1.25748502994012</c:v>
                </c:pt>
                <c:pt idx="13">
                  <c:v>1.2574850299401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20828392"/>
        <c:axId val="95391774"/>
      </c:barChart>
      <c:catAx>
        <c:axId val="2082839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91774"/>
        <c:crossesAt val="0"/>
        <c:auto val="1"/>
        <c:lblAlgn val="ctr"/>
        <c:lblOffset val="100"/>
        <c:noMultiLvlLbl val="0"/>
      </c:catAx>
      <c:valAx>
        <c:axId val="95391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2839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2" spc="-1" strike="noStrike">
                <a:solidFill>
                  <a:srgbClr val="000000"/>
                </a:solidFill>
                <a:latin typeface="Arial"/>
              </a:defRPr>
            </a:pPr>
            <a:r>
              <a:rPr b="0" sz="1082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5877960979512"/>
          <c:y val="0.020247469066366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56480439945007"/>
          <c:w val="0.959912892760322"/>
          <c:h val="0.82314710661167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7</c:v>
                </c:pt>
                <c:pt idx="5">
                  <c:v>4</c:v>
                </c:pt>
                <c:pt idx="6">
                  <c:v>2</c:v>
                </c:pt>
                <c:pt idx="7">
                  <c:v>3</c:v>
                </c:pt>
                <c:pt idx="8">
                  <c:v>1</c:v>
                </c:pt>
                <c:pt idx="9">
                  <c:v>1</c:v>
                </c:pt>
                <c:pt idx="10">
                  <c:v>3</c:v>
                </c:pt>
                <c:pt idx="11">
                  <c:v>2</c:v>
                </c:pt>
                <c:pt idx="12">
                  <c:v>5</c:v>
                </c:pt>
                <c:pt idx="13">
                  <c:v>1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89221556886228</c:v>
                </c:pt>
                <c:pt idx="1">
                  <c:v>2.89221556886228</c:v>
                </c:pt>
                <c:pt idx="2">
                  <c:v>11.9820359281437</c:v>
                </c:pt>
                <c:pt idx="3">
                  <c:v>10.3293413173653</c:v>
                </c:pt>
                <c:pt idx="4">
                  <c:v>7.43712574850299</c:v>
                </c:pt>
                <c:pt idx="5">
                  <c:v>7.43712574850299</c:v>
                </c:pt>
                <c:pt idx="6">
                  <c:v>7.43712574850299</c:v>
                </c:pt>
                <c:pt idx="7">
                  <c:v>4.95808383233533</c:v>
                </c:pt>
                <c:pt idx="8">
                  <c:v>2.47904191616766</c:v>
                </c:pt>
                <c:pt idx="9">
                  <c:v>3.30538922155689</c:v>
                </c:pt>
                <c:pt idx="10">
                  <c:v>2.89221556886228</c:v>
                </c:pt>
                <c:pt idx="11">
                  <c:v>2.47904191616766</c:v>
                </c:pt>
                <c:pt idx="12">
                  <c:v>1.23952095808383</c:v>
                </c:pt>
                <c:pt idx="13">
                  <c:v>1.23952095808383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58982204"/>
        <c:axId val="18687033"/>
      </c:barChart>
      <c:catAx>
        <c:axId val="5898220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87033"/>
        <c:crossesAt val="0"/>
        <c:auto val="1"/>
        <c:lblAlgn val="ctr"/>
        <c:lblOffset val="100"/>
        <c:noMultiLvlLbl val="0"/>
      </c:catAx>
      <c:valAx>
        <c:axId val="18687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8220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470F-E706-4749-9114-051B802D7E1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B42C-FE8A-4F53-91F2-E628F493C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2CF-E428-44B8-B853-136CC423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C9F-67A6-440B-BF94-C9EA8A3C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D74-F4B2-4CF2-9B85-9A4EF9A7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211-0067-4C39-A9E9-49A8E465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F30-C606-47F9-9FAD-B9E6103E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241-6217-4F27-BDFC-41B70F37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9132-9BF2-4605-ACD8-4157ED2E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1F91-A60B-4EE4-945E-12D94C32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BE4-FB41-4DE7-9ED1-1BEA1866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220D-5A03-4B40-A1C5-590C5E23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A9C4-6F61-421B-B048-423E9A4F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485E-E678-42F3-99E9-99797923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8560" y="643572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220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6920" y="643572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BE97-BF3E-4E64-AABF-CBF79F602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chart" Target="../charts/chart3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4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chart" Target="../charts/chart5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chart" Target="../charts/chart6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chart" Target="../charts/chart7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chart" Target="../charts/chart8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chart" Target="../charts/chart9.xm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chart" Target="../charts/chart10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cronograma%202&#186;%20semeste/Cronograma%20-%20PNTE.doc" TargetMode="External"/><Relationship Id="rId3" Type="http://schemas.openxmlformats.org/officeDocument/2006/relationships/hyperlink" Target="file:///Cronograma3-14-08.doc" TargetMode="External"/><Relationship Id="rId4" Type="http://schemas.openxmlformats.org/officeDocument/2006/relationships/hyperlink" Target="file:///Cronograma%20-%20completo.doc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RONOGRAMA%201&#186;%20SEMESTRE.doc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4.wmf"/><Relationship Id="rId5" Type="http://schemas.openxmlformats.org/officeDocument/2006/relationships/chart" Target="../charts/chart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chart" Target="../charts/chart2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120" y="119664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E LUIZ VAZ DE CAMÕES (Ipezal) - ANGÉLICA  - 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4920" y="450072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ixaDeTexto 5"/>
          <p:cNvSpPr/>
          <p:nvPr/>
        </p:nvSpPr>
        <p:spPr>
          <a:xfrm>
            <a:off x="1571760" y="5357880"/>
            <a:ext cx="507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6715080" y="528624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ixaDeTexto 5"/>
          <p:cNvSpPr/>
          <p:nvPr/>
        </p:nvSpPr>
        <p:spPr>
          <a:xfrm>
            <a:off x="2857680" y="5214960"/>
            <a:ext cx="3571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720720" y="1620720"/>
          <a:ext cx="7920000" cy="28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aixaDeTexto 5"/>
          <p:cNvSpPr/>
          <p:nvPr/>
        </p:nvSpPr>
        <p:spPr>
          <a:xfrm>
            <a:off x="2428920" y="5357880"/>
            <a:ext cx="3643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6715080" y="535788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849400" y="467028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940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6715080" y="535788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2668680" y="4500720"/>
          <a:ext cx="381132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8680" y="4500720"/>
                    <a:ext cx="38113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39640" y="1619280"/>
          <a:ext cx="809964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UR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5480" y="221436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ORA MARIA ELIANA FERREIR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aixaDeTexto 5"/>
          <p:cNvSpPr/>
          <p:nvPr/>
        </p:nvSpPr>
        <p:spPr>
          <a:xfrm>
            <a:off x="2643120" y="528624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6572160" y="528624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5"/>
          <p:cNvSpPr/>
          <p:nvPr/>
        </p:nvSpPr>
        <p:spPr>
          <a:xfrm>
            <a:off x="3357720" y="5357880"/>
            <a:ext cx="3000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6572160" y="528624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2849400" y="467028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940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aixaDeTexto 5"/>
          <p:cNvSpPr/>
          <p:nvPr/>
        </p:nvSpPr>
        <p:spPr>
          <a:xfrm>
            <a:off x="2286000" y="5357880"/>
            <a:ext cx="4286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6429240" y="528624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2668680" y="4670280"/>
          <a:ext cx="381132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8680" y="4670280"/>
                    <a:ext cx="38113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6429240" y="528624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2195640" y="4653000"/>
          <a:ext cx="381132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653000"/>
                    <a:ext cx="38113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39640" y="1619280"/>
          <a:ext cx="809964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999800"/>
            <a:ext cx="8497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nca utilizaram: (Educação Físi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s utilizaram: (Artes, Português, História,  Ciências, Produções Interativ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dia de aulas ociosas: 56,9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dia de aulas utilizadas: 43,0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esper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nca utilizaram: ( Todas utiliza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s utilizaram: (Matemática, História, Geograf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dia de aulas ociosas: 47,9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dia de aulas utilizadas: 52,0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otur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nca utilizaram: ( Ed. Física, Matemáti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s utilizaram: (História, Geografia, Química, Biolog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dia de aulas ociosas:  50,8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dia de aulas utilizadas:  49,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aixaDeTexto 4"/>
          <p:cNvSpPr/>
          <p:nvPr/>
        </p:nvSpPr>
        <p:spPr>
          <a:xfrm>
            <a:off x="5214960" y="3214800"/>
            <a:ext cx="3571920" cy="580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o que apresentou menos uso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resentar alguns pontos que devem ser mudados para o bom andamento do trabalho na S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resentar as ações que foram desenvolvidas pelos professores multiplicadores (NTE – STE)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resentar, analisar e refletir a respeito do uso da STE da escola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aborar cronograma de ações dos professores da STE no 2º semestre para formação in lo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UNS PONTOS PARA REFLETIR: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omunicação entre PNTE e PSTE deve ser consta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e-mails devem ser lidos por tod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MSN deve ficar ligado no período em que o Professor da STE estiver na sal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prazos deverão ser cumpridos, podendo ser alterado com justificativa prév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á responsabilizado o profissional que não cumprir com suas atribuições (professor do NTE, STE e professores regente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á construído portfólio online das atividades desenvolvidas na S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dos os planos de aula dos professores deverão ser assinados pelo coordenador do tur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oras, disponibilizará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ulas para planejamento junto aos coordenadores e professores regentes e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oras disponibilizará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ara planejamento junto à coordenação e professores regentes e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quadro de planejamento mensal do professor da STE deverá se adequar ao horário de atividades do professor regente, acompanhado pelos coorden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professor da STE deve ser responsável pelo preenchimento do relatório de utilização de seu tur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uso das mídias exter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binad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Quadro de PL do professor da STE de cada mês será elaborad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m acordo com a coordenação pedagógica e direção da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nvio do quadro de PL e relatório será até o 5º dia útil de cada mê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urno que optar pelas aulas programadas, as mesmas deverã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das ao NTE, no quadro de PLs ou portfól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10º dia útil de cada mês o Professor do NTE se reunirá co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 da STE para discutirem as ações desenvolvidas no mê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evistas para o mês seg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lanos de aula entregue pelos professores regentes devem es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dos em pasta, de forma cronológica e de fácil acesso, p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salmente o professor do NTE fará visita para conferir os rel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ão serão consideradas as aulas registradas sem 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o do professo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lano deve conter no máximo 2 aulas, mais 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o é necessário projeto de ensin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á elaborado portfólio on-line das atividades desenvolvi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 STE para orientações pedagógic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 prazos de atividades previstas, não justificadas e n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mpridas serão registradas em documento própri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orientações serão feitas por e-mail ou pessoalme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professor da STE se responsabilizará em fazer a relação dos professores que não utilizaram a STE no decorrer do mê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4 - Apresentar e discutir cronograma de ações NTE/STE para o 2º semestre de 2009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nograma de ação do P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ronograma de ação do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ronograma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e não a seus medos,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Papa João XXII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aixaDeTexto 4"/>
          <p:cNvSpPr/>
          <p:nvPr/>
        </p:nvSpPr>
        <p:spPr>
          <a:xfrm>
            <a:off x="92880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REFLEX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 e junh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. Apresentar e discutir cronograma de ações NTE/STE para o 2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ço Reservado para Rodapé 3"/>
          <p:cNvSpPr/>
          <p:nvPr/>
        </p:nvSpPr>
        <p:spPr>
          <a:xfrm>
            <a:off x="1763640" y="6408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70563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.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nograma do plano de ação -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3"/>
          <p:cNvSpPr/>
          <p:nvPr/>
        </p:nvSpPr>
        <p:spPr>
          <a:xfrm>
            <a:off x="1692360" y="6408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94920" y="1484280"/>
            <a:ext cx="84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Realidade de uso da STE nos meses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ço – Abril – Maio -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ço Reservado para Rodapé 3"/>
          <p:cNvSpPr/>
          <p:nvPr/>
        </p:nvSpPr>
        <p:spPr>
          <a:xfrm>
            <a:off x="2124000" y="602136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U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A SUELI LUIZA DOS SANTOS MILHO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ARÇO, ABR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* Março e Abril não tinha professor lotado no matu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428760" y="2138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5"/>
          <p:cNvSpPr/>
          <p:nvPr/>
        </p:nvSpPr>
        <p:spPr>
          <a:xfrm>
            <a:off x="7072200" y="5286240"/>
            <a:ext cx="1714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ixaDeTexto 11"/>
          <p:cNvSpPr/>
          <p:nvPr/>
        </p:nvSpPr>
        <p:spPr>
          <a:xfrm>
            <a:off x="6429240" y="557208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7572240" y="5857920"/>
            <a:ext cx="1266840" cy="590400"/>
          </a:xfrm>
          <a:prstGeom prst="rect">
            <a:avLst/>
          </a:prstGeom>
          <a:ln w="0">
            <a:noFill/>
          </a:ln>
        </p:spPr>
      </p:pic>
      <p:sp>
        <p:nvSpPr>
          <p:cNvPr id="107" name="Conector reto 20"/>
          <p:cNvSpPr/>
          <p:nvPr/>
        </p:nvSpPr>
        <p:spPr>
          <a:xfrm flipH="1">
            <a:off x="783720" y="3787920"/>
            <a:ext cx="1800" cy="1643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849400" y="468000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940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6715080" y="521496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700360" y="450072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50072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39640" y="1619280"/>
          <a:ext cx="809964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A SILVANA POLIZ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4:15:31Z</dcterms:created>
  <dc:creator>Luciana Catarino</dc:creator>
  <dc:description/>
  <dc:language>en-US</dc:language>
  <cp:lastModifiedBy>SEDMS</cp:lastModifiedBy>
  <dcterms:modified xsi:type="dcterms:W3CDTF">2009-08-17T23:22:35Z</dcterms:modified>
  <cp:revision>92</cp:revision>
  <dc:subject/>
  <dc:title>EE LUIZ SOARES ANDRADE  NOVA ANDRADINA - MS</dc:title>
</cp:coreProperties>
</file>